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32CB-72E8-460B-9FE1-D43C5AE77E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D6392-BDCF-4DDD-9358-4D1C6D41314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sminch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"/>
          <p:cNvSpPr/>
          <p:nvPr/>
        </p:nvSpPr>
        <p:spPr>
          <a:xfrm>
            <a:off x="3881520" y="8686800"/>
            <a:ext cx="29700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E6184C03-1F14-4AC6-9BB2-CC7D3421807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sminch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-230040" y="-343080"/>
            <a:ext cx="7315200" cy="54882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ходясь в некоторой среде общения – семье, образовательном учреждении, компании сверстников - ребенок как бы «заглатывает» те нормы и ценности, которые в этой среде главенствуют, а затем постепенно перерабатывает их, изменяя и приспосабливая к своим индивидуальным особенностям и жизненным целям. Но все очень не просто. Процессы «поглощения» и переработки социального опыта разнесены во времени. Есть целые этапы жизни, когда ребенок руководствуется в основном усвоенным, но не переработанным опытом. Живет чужим умом, сверхнормативен. А в другие периоды идет бурный процесс переработки, осмысления опыта, когда главным делом жизни становится жить не как все, быть непохожим на других. В конечном итоге, сложная спираль социально-психологического развития должна привести к социальной зрелости личности – состоянию гармонии типического и индивидуального в человеке. Но случается это не  так быстро, как говорится, и не всегда. Потому что история взаимоотношений человека с нормами в детстве и юности драматична, полна опасностей, преодолеть которые без помощи и поддержки удается далеко не всем. На каждом этапе можно выделить некоторые принципиально важные задачи для взрослых, работающих с детьми. От эффективности их решения зачастую зависит, пойдет ли дальнейшее развитие естественным и продуктивным рус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858DB-EEF5-4846-91BB-B54BD5A644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8FFC1-D397-46B9-BC50-CE7CEBFD8B5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sminch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"/>
          <p:cNvSpPr/>
          <p:nvPr/>
        </p:nvSpPr>
        <p:spPr>
          <a:xfrm>
            <a:off x="3881520" y="8686800"/>
            <a:ext cx="29700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B3C57B35-CF28-410B-9A1D-17F859C1C9A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sminch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-228600" y="-343080"/>
            <a:ext cx="7315200" cy="54882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BF07-FFDC-4AB7-9A7C-D289E61EF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A374-D3FE-4B1B-AE44-4989F79D6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C8CC-F583-4445-9526-5E3136AB1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7357-233C-4BB8-9310-E3141E41E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310C-322A-4069-803B-01FD35CD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77E0-C015-48DF-9489-FB039A038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D68E-5D50-4485-A7C1-B7FA371D2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8527-132E-4155-B915-C504B7756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A426-DE71-4800-AA1F-CBFBBCC80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60A5-9E3D-4673-B1BD-DA2EEEAC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4FEB-AD52-4025-8B8A-A33D06DF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A294-AEFC-4E13-A2D6-8DDD8BB3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9DAF6-DB04-4044-AFB5-CB7D85ADF5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3449160"/>
            <a:ext cx="851508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мплексный учебный курс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Основы религиозных культур и светской этики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6" descr="sait.bmp"/>
          <p:cNvPicPr/>
          <p:nvPr/>
        </p:nvPicPr>
        <p:blipFill>
          <a:blip r:embed="rId1"/>
          <a:stretch/>
        </p:blipFill>
        <p:spPr>
          <a:xfrm>
            <a:off x="304920" y="76320"/>
            <a:ext cx="8497800" cy="335268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2" descr=""/>
          <p:cNvPicPr/>
          <p:nvPr/>
        </p:nvPicPr>
        <p:blipFill>
          <a:blip r:embed="rId2"/>
          <a:stretch/>
        </p:blipFill>
        <p:spPr>
          <a:xfrm>
            <a:off x="5029200" y="847800"/>
            <a:ext cx="377352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Учебный модуль </a:t>
            </a:r>
            <a:br>
              <a:rPr sz="2800"/>
            </a:b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«Основы религиозных культур народов России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0880" y="1020600"/>
            <a:ext cx="6019920" cy="56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оссия – наша Родина. Культура и религия. Традиционные религии народов России и их основатели (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православие, ислам, буддизм, иудаизм)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Священные книги. Священные сооружения. Искусство в религиозной культуре. Религия и мораль. Нравственные заповеди в религиозной культуре народов России. Религиозные ритуалы. Обычаи и обряды. Религиозные ритуалы в искусстве. Праздники и календари в традиционных религиях Росс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емья, семейные ценности. Долг, свобода, ответственность, учение и труд. Милосердие, забота о слабых, взаимопомощь, социальные проблемы общества и отношение к ним разных религий.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юбовь и уважение к Отечеству. Патриотизм многонационального и многоконфессионального народа России. 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49" descr="Беглов, Саплина - Основы религиозных культур народов России. 4 класс. Учебник обложка книги"/>
          <p:cNvPicPr/>
          <p:nvPr/>
        </p:nvPicPr>
        <p:blipFill>
          <a:blip r:embed="rId1"/>
          <a:stretch/>
        </p:blipFill>
        <p:spPr>
          <a:xfrm>
            <a:off x="6620040" y="1219320"/>
            <a:ext cx="2111040" cy="280332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6"/>
          <p:cNvSpPr/>
          <p:nvPr/>
        </p:nvSpPr>
        <p:spPr>
          <a:xfrm>
            <a:off x="6553080" y="4214880"/>
            <a:ext cx="245772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Calibri"/>
              </a:rPr>
              <a:t>Основы религиозных культур и светской этики. Основы религиозных культур народов России. 4 класс. Учебн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Calibri"/>
              </a:rPr>
              <a:t>А.Л. Беглов, Е.С. Токарева, Е.В. Сапл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4358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Учебный модуль «Основы светской этики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06160" y="762120"/>
            <a:ext cx="60195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ультура и  морал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равственность и её значение в жизни челове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аздники как одна из форм исторической памяти. Образцы нравственности в культурах разных народ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сударство и мораль граждани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разцы нравственности в культуре Отечества. Трудовая мораль. Что значит быть </a:t>
            </a:r>
            <a:r>
              <a:rPr b="0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равственным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в наше время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сшие нравственные ценности, идеалы, принципы морали. Методика создания морального кодекса в классе, школе. Нормы морали. Этикет. Образование как нравственная норма. Методы нравственного самосовершенств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юбовь и уважение к Отечеству. Патриотизм многонационального и многоконфессионального народа России. 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40" descr="Основы религиозных культур и светской этики. Основы светской этики. 4 класс. Учебник - фото 1"/>
          <p:cNvPicPr/>
          <p:nvPr/>
        </p:nvPicPr>
        <p:blipFill>
          <a:blip r:embed="rId1"/>
          <a:stretch/>
        </p:blipFill>
        <p:spPr>
          <a:xfrm>
            <a:off x="6705720" y="878040"/>
            <a:ext cx="2133360" cy="294768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5"/>
          <p:cNvSpPr/>
          <p:nvPr/>
        </p:nvSpPr>
        <p:spPr>
          <a:xfrm>
            <a:off x="6683400" y="3894120"/>
            <a:ext cx="227484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Calibri"/>
              </a:rPr>
              <a:t>Основы религиозных культур и светской этики. Основы светской этики. 4 класс. Учебн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Calibri"/>
              </a:rPr>
              <a:t>А.А. Шемшурина, А.А. Шемшур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838080" y="228600"/>
            <a:ext cx="5029200" cy="14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чему для изучения кур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РКСЭ выбран этот возрас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533520" y="1981080"/>
            <a:ext cx="8001000" cy="45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304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ребенок в этом возрасте наименее конфликт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04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у детей появляется потребность в новом содержании, обращении к внутреннему миру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04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у детей уже сформирована способность понимать смыслы на уровне понятий Добро, Совесть, Милосердие, Друж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04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в этом возрасте возникает потребность в примере, идеа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04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ребенок «открывает» социальное  разнообразие внутри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6095880" y="304920"/>
            <a:ext cx="2667240" cy="153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http://img-fotki.yandex.ru/get/22/olhovik-ru.3/0_bdc6_b09929b6_XL"/>
          <p:cNvPicPr/>
          <p:nvPr/>
        </p:nvPicPr>
        <p:blipFill>
          <a:blip r:embed="rId1"/>
          <a:stretch/>
        </p:blipFill>
        <p:spPr>
          <a:xfrm>
            <a:off x="5643720" y="1071720"/>
            <a:ext cx="3143160" cy="419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8" name="TextBox 7"/>
          <p:cNvSpPr/>
          <p:nvPr/>
        </p:nvSpPr>
        <p:spPr>
          <a:xfrm>
            <a:off x="571680" y="5500800"/>
            <a:ext cx="2286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876240" y="5805360"/>
            <a:ext cx="228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0"/>
          <p:cNvSpPr/>
          <p:nvPr/>
        </p:nvSpPr>
        <p:spPr>
          <a:xfrm>
            <a:off x="714240" y="5429160"/>
            <a:ext cx="3214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Calibri"/>
              </a:rPr>
              <a:t>Дошкольник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1"/>
          <p:cNvSpPr/>
          <p:nvPr/>
        </p:nvSpPr>
        <p:spPr>
          <a:xfrm>
            <a:off x="2057400" y="4286160"/>
            <a:ext cx="3586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Младший школьник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2"/>
          <p:cNvSpPr/>
          <p:nvPr/>
        </p:nvSpPr>
        <p:spPr>
          <a:xfrm>
            <a:off x="0" y="2857680"/>
            <a:ext cx="3571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ладший</a:t>
            </a:r>
            <a:r>
              <a:rPr b="1" lang="ru-RU" sz="27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росток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3"/>
          <p:cNvSpPr/>
          <p:nvPr/>
        </p:nvSpPr>
        <p:spPr>
          <a:xfrm>
            <a:off x="2057400" y="1371600"/>
            <a:ext cx="3657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арший подросток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4"/>
          <p:cNvSpPr/>
          <p:nvPr/>
        </p:nvSpPr>
        <p:spPr>
          <a:xfrm>
            <a:off x="214200" y="214200"/>
            <a:ext cx="3595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аршеклассник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Выгнутая вправо стрелка 17"/>
          <p:cNvSpPr/>
          <p:nvPr/>
        </p:nvSpPr>
        <p:spPr>
          <a:xfrm rot="9999600">
            <a:off x="180720" y="3485880"/>
            <a:ext cx="1352520" cy="1720800"/>
          </a:xfrm>
          <a:custGeom>
            <a:avLst/>
            <a:gdLst>
              <a:gd name="textAreaLeft" fmla="*/ 181080 w 1352520"/>
              <a:gd name="textAreaRight" fmla="*/ 1171440 w 1352520"/>
              <a:gd name="textAreaTop" fmla="*/ 303120 h 1720800"/>
              <a:gd name="textAreaBottom" fmla="*/ 1248480 h 172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617" stAng="-5400000" swAng="5400000"/>
                <a:lnTo>
                  <a:pt x="21600" y="11862"/>
                </a:lnTo>
                <a:arcTo wR="21600" hR="7617" stAng="0" swAng="3227218"/>
                <a:lnTo>
                  <a:pt x="5400" y="21358"/>
                </a:lnTo>
                <a:lnTo>
                  <a:pt x="0" y="17356"/>
                </a:lnTo>
                <a:lnTo>
                  <a:pt x="5400" y="12869"/>
                </a:lnTo>
                <a:lnTo>
                  <a:pt x="5400" y="14991"/>
                </a:lnTo>
                <a:arcTo wR="21600" hR="7617" stAng="3227218" swAng="-2876698"/>
                <a:lnTo>
                  <a:pt x="20744" y="9739"/>
                </a:lnTo>
                <a:arcTo wR="21600" hR="7617" stAng="-350520" swAng="-5049480"/>
                <a:close/>
              </a:path>
              <a:path fill="darkenLess" w="21600" h="21600">
                <a:moveTo>
                  <a:pt x="0" y="0"/>
                </a:moveTo>
                <a:arcTo wR="21600" hR="7617" stAng="-5400000" swAng="5400000"/>
                <a:lnTo>
                  <a:pt x="21600" y="11862"/>
                </a:lnTo>
                <a:arcTo wR="21600" hR="7617" stAng="0" swAng="-350520"/>
                <a:lnTo>
                  <a:pt x="20744" y="9739"/>
                </a:lnTo>
                <a:arcTo wR="21600" hR="7617" stAng="-350520" swAng="-504948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Выгнутая влево стрелка 18"/>
          <p:cNvSpPr/>
          <p:nvPr/>
        </p:nvSpPr>
        <p:spPr>
          <a:xfrm rot="13663800">
            <a:off x="3804120" y="4898160"/>
            <a:ext cx="1371600" cy="2033640"/>
          </a:xfrm>
          <a:custGeom>
            <a:avLst/>
            <a:gdLst>
              <a:gd name="textAreaLeft" fmla="*/ 183600 w 1371600"/>
              <a:gd name="textAreaRight" fmla="*/ 1188000 w 1371600"/>
              <a:gd name="textAreaTop" fmla="*/ 385920 h 2033640"/>
              <a:gd name="textAreaBottom" fmla="*/ 1500480 h 203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97" stAng="-5400000" swAng="-5400000"/>
                <a:lnTo>
                  <a:pt x="0" y="11839"/>
                </a:lnTo>
                <a:arcTo wR="21600" hR="8197" stAng="10800000" swAng="-3123550"/>
                <a:lnTo>
                  <a:pt x="15472" y="21263"/>
                </a:lnTo>
                <a:lnTo>
                  <a:pt x="21600" y="18215"/>
                </a:lnTo>
                <a:lnTo>
                  <a:pt x="15472" y="14493"/>
                </a:lnTo>
                <a:lnTo>
                  <a:pt x="15472" y="16057"/>
                </a:lnTo>
                <a:arcTo wR="21600" hR="8197" stAng="7676450" swAng="2827039"/>
                <a:lnTo>
                  <a:pt x="540" y="10018"/>
                </a:lnTo>
                <a:arcTo wR="21600" hR="8197" stAng="-10503489" swAng="5103489"/>
                <a:close/>
              </a:path>
              <a:path fill="darkenLess" w="21600" h="21600">
                <a:moveTo>
                  <a:pt x="21600" y="0"/>
                </a:moveTo>
                <a:arcTo wR="21600" hR="8197" stAng="-5400000" swAng="-5400000"/>
                <a:lnTo>
                  <a:pt x="0" y="8197"/>
                </a:lnTo>
                <a:arcTo wR="21600" hR="8197" stAng="10800000" swAng="-296511"/>
                <a:lnTo>
                  <a:pt x="540" y="10018"/>
                </a:lnTo>
                <a:arcTo wR="21600" hR="8197" stAng="-10503489" swAng="5103489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Выгнутая влево стрелка 21"/>
          <p:cNvSpPr/>
          <p:nvPr/>
        </p:nvSpPr>
        <p:spPr>
          <a:xfrm rot="13140000">
            <a:off x="3916080" y="1881360"/>
            <a:ext cx="1371600" cy="2033280"/>
          </a:xfrm>
          <a:custGeom>
            <a:avLst/>
            <a:gdLst>
              <a:gd name="textAreaLeft" fmla="*/ 183600 w 1371600"/>
              <a:gd name="textAreaRight" fmla="*/ 1188000 w 1371600"/>
              <a:gd name="textAreaTop" fmla="*/ 385560 h 2033280"/>
              <a:gd name="textAreaBottom" fmla="*/ 1500480 h 203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97" stAng="-5400000" swAng="-5400000"/>
                <a:lnTo>
                  <a:pt x="0" y="11839"/>
                </a:lnTo>
                <a:arcTo wR="21600" hR="8197" stAng="10800000" swAng="-3123550"/>
                <a:lnTo>
                  <a:pt x="15472" y="21263"/>
                </a:lnTo>
                <a:lnTo>
                  <a:pt x="21600" y="18215"/>
                </a:lnTo>
                <a:lnTo>
                  <a:pt x="15472" y="14493"/>
                </a:lnTo>
                <a:lnTo>
                  <a:pt x="15472" y="16057"/>
                </a:lnTo>
                <a:arcTo wR="21600" hR="8197" stAng="7676450" swAng="2827039"/>
                <a:lnTo>
                  <a:pt x="540" y="10018"/>
                </a:lnTo>
                <a:arcTo wR="21600" hR="8197" stAng="-10503489" swAng="5103489"/>
                <a:close/>
              </a:path>
              <a:path fill="darkenLess" w="21600" h="21600">
                <a:moveTo>
                  <a:pt x="21600" y="0"/>
                </a:moveTo>
                <a:arcTo wR="21600" hR="8197" stAng="-5400000" swAng="-5400000"/>
                <a:lnTo>
                  <a:pt x="0" y="8197"/>
                </a:lnTo>
                <a:arcTo wR="21600" hR="8197" stAng="10800000" swAng="-296511"/>
                <a:lnTo>
                  <a:pt x="540" y="10018"/>
                </a:lnTo>
                <a:arcTo wR="21600" hR="8197" stAng="-10503489" swAng="5103489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Выгнутая вправо стрелка 22"/>
          <p:cNvSpPr/>
          <p:nvPr/>
        </p:nvSpPr>
        <p:spPr>
          <a:xfrm rot="9999600">
            <a:off x="561600" y="742680"/>
            <a:ext cx="1352520" cy="1720800"/>
          </a:xfrm>
          <a:custGeom>
            <a:avLst/>
            <a:gdLst>
              <a:gd name="textAreaLeft" fmla="*/ 181080 w 1352520"/>
              <a:gd name="textAreaRight" fmla="*/ 1171440 w 1352520"/>
              <a:gd name="textAreaTop" fmla="*/ 303120 h 1720800"/>
              <a:gd name="textAreaBottom" fmla="*/ 1248480 h 172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617" stAng="-5400000" swAng="5400000"/>
                <a:lnTo>
                  <a:pt x="21600" y="11862"/>
                </a:lnTo>
                <a:arcTo wR="21600" hR="7617" stAng="0" swAng="3227218"/>
                <a:lnTo>
                  <a:pt x="5400" y="21358"/>
                </a:lnTo>
                <a:lnTo>
                  <a:pt x="0" y="17356"/>
                </a:lnTo>
                <a:lnTo>
                  <a:pt x="5400" y="12869"/>
                </a:lnTo>
                <a:lnTo>
                  <a:pt x="5400" y="14991"/>
                </a:lnTo>
                <a:arcTo wR="21600" hR="7617" stAng="3227218" swAng="-2876698"/>
                <a:lnTo>
                  <a:pt x="20744" y="9739"/>
                </a:lnTo>
                <a:arcTo wR="21600" hR="7617" stAng="-350520" swAng="-5049480"/>
                <a:close/>
              </a:path>
              <a:path fill="darkenLess" w="21600" h="21600">
                <a:moveTo>
                  <a:pt x="0" y="0"/>
                </a:moveTo>
                <a:arcTo wR="21600" hR="7617" stAng="-5400000" swAng="5400000"/>
                <a:lnTo>
                  <a:pt x="21600" y="11862"/>
                </a:lnTo>
                <a:arcTo wR="21600" hR="7617" stAng="0" swAng="-350520"/>
                <a:lnTo>
                  <a:pt x="20744" y="9739"/>
                </a:lnTo>
                <a:arcTo wR="21600" hR="7617" stAng="-350520" swAng="-504948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никальность курса – возможности взаимодействие ребенка, родителей и учителя, школы по жизненно важным вопроса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о такое человек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чем смысл жизн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чему надо следовать добру и избегать з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ое значение в жизни человека имеет семь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 правильно строить отношения с другими людь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чему нравственная личность созидает, а безнравственная разрушает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ую значение имеет религия в жизни верующего челове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"/>
          <p:cNvSpPr/>
          <p:nvPr/>
        </p:nvSpPr>
        <p:spPr>
          <a:xfrm>
            <a:off x="271440" y="1236600"/>
            <a:ext cx="84549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222268"/>
              </a:buClr>
              <a:buFont typeface="Wingdings" charset="2"/>
              <a:buChar char="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68"/>
                </a:solidFill>
                <a:latin typeface="Times New Roman"/>
              </a:rPr>
              <a:t>Информирование родителей о темах и заданиях, в выполнении которых ожидается помощь род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222268"/>
              </a:buClr>
              <a:buFont typeface="Wingdings" charset="2"/>
              <a:buChar char="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68"/>
                </a:solidFill>
                <a:latin typeface="Times New Roman"/>
              </a:rPr>
              <a:t>Участие родителей в выполнении домашних заданий -  ответы на вопросы интервью, помощь в подборе иллюстративного материала к урокам, материала для галереи образов, рассказы о культовых местах, религиозных святынях, показ фотографий или видеофильм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222268"/>
              </a:buClr>
              <a:buFont typeface="Wingdings" charset="2"/>
              <a:buChar char="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68"/>
                </a:solidFill>
                <a:latin typeface="Times New Roman"/>
              </a:rPr>
              <a:t>Выступление членов семей с рассказами  о семейных традиц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222268"/>
              </a:buClr>
              <a:buFont typeface="Wingdings" charset="2"/>
              <a:buChar char="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68"/>
                </a:solidFill>
                <a:latin typeface="Times New Roman"/>
              </a:rPr>
              <a:t>Участие и соавторство родителей и членов семьи в создании детских презентаций,  итоговых прое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222268"/>
              </a:buClr>
              <a:buFont typeface="Wingdings" charset="2"/>
              <a:buChar char="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68"/>
                </a:solidFill>
                <a:latin typeface="Times New Roman"/>
              </a:rPr>
              <a:t>Участие родителей в подготовке  к внеурочным мероприят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222268"/>
              </a:buClr>
              <a:buFont typeface="Wingdings" charset="2"/>
              <a:buChar char="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68"/>
                </a:solidFill>
                <a:latin typeface="Times New Roman"/>
              </a:rPr>
              <a:t>Формирование домашней библиотеки, организация домашнего чт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155520" y="-27000"/>
            <a:ext cx="8686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Формы взаимодействия семьи и школы </a:t>
            </a: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в рамках изучения курса ОРКСЭ</a:t>
            </a:r>
            <a:r>
              <a:rPr b="1" lang="ru-RU" sz="2800" spc="-1" strike="noStrike">
                <a:solidFill>
                  <a:srgbClr val="f579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ценивание по курсу ОРКС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42720" y="11426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соответствии с п.10 ст.28 Закона "Об образовании в Российской Федерации осуществление текущего контроля успеваемости и промежуточной аттестации обучающихся, установление их форм, периодичности и порядка проведения  - это компетенция, права, обязанности и ответственность образовательной организ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1800"/>
              </a:spcAft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 курсу ОРСКЭ в гимназии </a:t>
            </a:r>
            <a:r>
              <a:rPr b="0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езотметочное оценивание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Результаты подготовки и защиты творческих продуктов и проектов учитываются при формировании портфолио учеников. Итоговая оценка результатов образования детей по модулям предусмотрена в рамках завершающего раздела курса, в форме зачета (контрольный тест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1349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Организация свободного добровольного информированного выбора родителями одного из модулей  курса ОРКСЭ для изучения их деть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160" y="2239560"/>
            <a:ext cx="786276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щее родительское собрание третьеклассников: представление информации о целях и задачах курса,  знакомство с учителями по каждому модулю курса, представление учебников, содержания моду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дача форм заявл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бор заявлений, принятие решения о формировании групп по модул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аз недостающих учеб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одзаголовок 2"/>
          <p:cNvSpPr/>
          <p:nvPr/>
        </p:nvSpPr>
        <p:spPr>
          <a:xfrm>
            <a:off x="838080" y="40384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бор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за вами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рогие родител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6" descr="sait.bmp"/>
          <p:cNvPicPr/>
          <p:nvPr/>
        </p:nvPicPr>
        <p:blipFill>
          <a:blip r:embed="rId1"/>
          <a:stretch/>
        </p:blipFill>
        <p:spPr>
          <a:xfrm>
            <a:off x="457200" y="0"/>
            <a:ext cx="8497800" cy="3352680"/>
          </a:xfrm>
          <a:prstGeom prst="rect">
            <a:avLst/>
          </a:prstGeom>
          <a:ln w="0">
            <a:noFill/>
          </a:ln>
        </p:spPr>
      </p:pic>
      <p:pic>
        <p:nvPicPr>
          <p:cNvPr id="109" name="Прямоугольник 3" descr=""/>
          <p:cNvPicPr/>
          <p:nvPr/>
        </p:nvPicPr>
        <p:blipFill>
          <a:blip r:embed="rId2"/>
          <a:stretch/>
        </p:blipFill>
        <p:spPr>
          <a:xfrm>
            <a:off x="5162400" y="762120"/>
            <a:ext cx="377352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ормативные основы преподавания предмета 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Основы религиозных культур и светской эти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4"/>
          <p:cNvSpPr/>
          <p:nvPr/>
        </p:nvSpPr>
        <p:spPr>
          <a:xfrm>
            <a:off x="419040" y="1187280"/>
            <a:ext cx="8458200" cy="53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поряжение Правительства Российской Федерации от 29 октября 2009 года №1578-р «Об утверждении плана мероприятий по апробации в 2009-2011 гг. комплексного учебного курса для общеобразовательных учреждений "Основы религиозных культур и светской этики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Федеральный закон от 29 декабря 2012 г. № 273-ФЗ «Об образовании в Российской Федерац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исьмо Министерства образования и науки РФ от 24 октября 2011 года № МД-1427/03 «Об обеспечении преподавания комплексного учебного курса ОРКСЭ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каз Минпросвещения РФ от 31.05.2021г. №286 «Об утверждении федерального государственного образовательного стандарта начального общего образова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каз Минпросвещения РФ от 18.05.2023 №372 «Об утверждении федеральной образовательной программы начального общего образования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каз Минпросвещения РФ от 21.05.2022 №858 «Об утверждении федерального перечня учебников, допущенных к использованию при реализации образовательных программ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исьмо Министерства образования Красноярского края от 19.01.2024 №76-634 «Об обеспечении выбора модулей курса ОРКСЭ в 2024</a:t>
            </a:r>
            <a:r>
              <a:rPr b="0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/20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5 учебном год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грамма воспитания НОО гимназ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3"/>
          <p:cNvSpPr/>
          <p:nvPr/>
        </p:nvSpPr>
        <p:spPr>
          <a:xfrm>
            <a:off x="457200" y="304920"/>
            <a:ext cx="81532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 курса ОРКСЭ: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рмирование у младшего школьника мотивации к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ознанному нравственному поведению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основанному на знании и уважении культурных и религиозных традиций многонационального народа России, а также к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иалогу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с представителями других культур и мировоззр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6"/>
          <p:cNvSpPr/>
          <p:nvPr/>
        </p:nvSpPr>
        <p:spPr>
          <a:xfrm>
            <a:off x="457200" y="2133720"/>
            <a:ext cx="8153280" cy="40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500"/>
              </a:spcAft>
              <a:buClr>
                <a:srgbClr val="00206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накомство обучающихся с основами православной, исламской, буддийской, иудейской культур, основами религиозных культур народов России и светской э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500"/>
              </a:spcAft>
              <a:buClr>
                <a:srgbClr val="00206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ие представлений младшего школьника о значении нравственных норм и ценностей для достойной жизни личности, семьи, об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500"/>
              </a:spcAft>
              <a:buClr>
                <a:srgbClr val="00206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общение знаний, понятий и представлений о духовной культуре и морали, формирование ценностно-смысловых мировоззренческих основ, обеспечивающих целостное восприятие отечественной истории и куль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500"/>
              </a:spcAft>
              <a:buClr>
                <a:srgbClr val="00206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ие способностей младших школьников к общению в полиэтнической и многоконфессиональной среде на основе взаимного уважения и диалога во имя общественного мира и согла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выбору родителей (законных представителей) изучается один из шести модулей: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Основы православной культур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Основы исламской культур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Основы буддийской культур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Основы иудейской культур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Основы религиозных культур народов Росси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Основы светской эти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новные базовые ценности курс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ечество, культура, семья, религия, этика, духовность, патриотиз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каждой семье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свои традиции, религиозные и другие предпочтения. Школа их учитыва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руктура модулей комплексного учебного курса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4 раздела</a:t>
            </a:r>
            <a:r>
              <a:rPr b="1" i="1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) «Россия – наша Родина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) и 3) модульные,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) «Любовь и уважение к Отечеству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rcRect l="1985" t="1985" r="1985" b="1985"/>
          <a:stretch/>
        </p:blipFill>
        <p:spPr>
          <a:xfrm>
            <a:off x="7010280" y="1371600"/>
            <a:ext cx="1752840" cy="1752480"/>
          </a:xfrm>
          <a:prstGeom prst="rect">
            <a:avLst/>
          </a:prstGeom>
          <a:ln w="28440">
            <a:solidFill>
              <a:srgbClr val="3366ff"/>
            </a:solidFill>
            <a:miter/>
          </a:ln>
        </p:spPr>
      </p:pic>
      <p:sp>
        <p:nvSpPr>
          <p:cNvPr id="57" name="Прямоугольник 3"/>
          <p:cNvSpPr/>
          <p:nvPr/>
        </p:nvSpPr>
        <p:spPr>
          <a:xfrm>
            <a:off x="74448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дули курса ОРКС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чебный курс ОРКСЭ - единая комплексная учебно-воспитательная сист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е 6 модулей курса разработаны на единой методической осно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е модули курса согласуются между собой по педагогическим целям, задачам, требованиям к результатам освоения учебного содержания, находясь в системе содержательных, понятийных, ценностно-смысловых связей с другими гуманитарными предметами начальной и основной шк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228240"/>
            <a:ext cx="8435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Учебный модуль «Основы иудейской культуры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04920" y="838080"/>
            <a:ext cx="6324480" cy="56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ведение в иудейскую духовную традицию. Культура и религия. Тора - главная книга иудаизма. Классические тексты иудаизма. Патриархи еврейского народа. Пророки и праведники в иудейской культуре. Храм в жизни иудеев. Назначение синагоги и её устройство. Суббота (Шабат) в иудейской традиции. Иудаизм в России. Традиции иудаизма в повседневной жизни евреев. Ответственное принятие заповедей. Еврейский дом. Знакомство с еврейским календарём: его устройство и особенности. Еврейские праздники: их история и традиции. Ценности семейной жизни в иудейской традиции.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юбовь и уважение к Отечеству. Патриотизм многонационального и многоконфессионального народа России. 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8" descr=""/>
          <p:cNvPicPr/>
          <p:nvPr/>
        </p:nvPicPr>
        <p:blipFill>
          <a:blip r:embed="rId1"/>
          <a:stretch/>
        </p:blipFill>
        <p:spPr>
          <a:xfrm>
            <a:off x="6781680" y="1027080"/>
            <a:ext cx="2036880" cy="289548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1"/>
          <p:cNvSpPr/>
          <p:nvPr/>
        </p:nvSpPr>
        <p:spPr>
          <a:xfrm>
            <a:off x="6772320" y="3962520"/>
            <a:ext cx="2174760" cy="1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Calibri"/>
              </a:rPr>
              <a:t>Основы религиозных культур и светской этики. Основы иудейской  культуры. 4 класс. Учебн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Calibri"/>
              </a:rPr>
              <a:t>М.А. Членов, Г.А. Миндрина, А.В. Глоц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79280"/>
            <a:ext cx="84362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Учебный модуль «Основы буддийской культуры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80880" y="1142640"/>
            <a:ext cx="5943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ведение в буддийскую духовную традиц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ультура и религ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удда и его учение. Буддийские святые. Будды. Семья в буддийской культуре и её цен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уддизм в Росс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ловек в буддийской картине мира. Буддийские символы. Буддийские ритуалы. Буддийские святыни. Буддийские священные сооружения. Буддийский храм. Буддийский календарь. Праздники в буддийской культуре. Искусство в буддийской культуре. 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юбовь и уважение к Отечеству. Патриотизм многонационального и многоконфессионального народа России. 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14" descr=""/>
          <p:cNvPicPr/>
          <p:nvPr/>
        </p:nvPicPr>
        <p:blipFill>
          <a:blip r:embed="rId1"/>
          <a:stretch/>
        </p:blipFill>
        <p:spPr>
          <a:xfrm>
            <a:off x="6683400" y="1144440"/>
            <a:ext cx="2133720" cy="288288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1"/>
          <p:cNvSpPr/>
          <p:nvPr/>
        </p:nvSpPr>
        <p:spPr>
          <a:xfrm>
            <a:off x="6576840" y="4114800"/>
            <a:ext cx="2346480" cy="11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Calibri"/>
              </a:rPr>
              <a:t>Основы религиозных культур и светской этики. Основы буддийской культуры. 4 класс. Учебн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Calibri"/>
              </a:rPr>
              <a:t>В.Л. Чимитдоржи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Учебный модуль «Основы православной культуры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04920" y="1003320"/>
            <a:ext cx="6248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ведение в православную духовную традиц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ультура и религ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бро и зло в православной традиции. </a:t>
            </a:r>
            <a:r>
              <a:rPr b="0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олотое правило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нравственности. Любовь к ближнему. Отношение к труд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лг и ответственность. Милосердие и сострада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авославие в Росс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авославный храм и другие святыни. Символический язык православной культуры: христианское искусство (иконы, фрески, церковное пение, прикладное искусство), православный календарь. Праздни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ристианская семья и её цен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юбовь и уважение к Отечеству. Патриотизм многонационального и многоконфессионального народа России.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11" descr=""/>
          <p:cNvPicPr/>
          <p:nvPr/>
        </p:nvPicPr>
        <p:blipFill>
          <a:blip r:embed="rId1"/>
          <a:stretch/>
        </p:blipFill>
        <p:spPr>
          <a:xfrm>
            <a:off x="6740640" y="1143000"/>
            <a:ext cx="1946160" cy="261144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12"/>
          <p:cNvSpPr/>
          <p:nvPr/>
        </p:nvSpPr>
        <p:spPr>
          <a:xfrm>
            <a:off x="6721560" y="3886200"/>
            <a:ext cx="2195280" cy="11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Calibri"/>
              </a:rPr>
              <a:t>Основы религиозных культур и светской этики. Основы православной культуры. 4 класс. Учебн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Calibri"/>
              </a:rPr>
              <a:t>А.В. Кура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560" y="228240"/>
            <a:ext cx="8435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Учебный модуль «Основы исламской культуры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33160" y="1066680"/>
            <a:ext cx="60958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ведение в исламскую духовную традиц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ультура и религ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рок Мухаммад - образец человека и учитель нравственности в исламской традиции. Столпы ислама и исламской этики. Обязанности мусульман. Для чего построена и как устроена мечеть. Мусульманское летоисчисление и календар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лам в Росс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емья в исламе. Нравственные ценности ислама. Праздники исламских народов России: их происхождение и особенности проведения. Искусство ислама. 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юбовь и уважение к Отечеству. Патриотизм многонационального и многоконфессионального народа России. 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5" descr=""/>
          <p:cNvPicPr/>
          <p:nvPr/>
        </p:nvPicPr>
        <p:blipFill>
          <a:blip r:embed="rId1"/>
          <a:stretch/>
        </p:blipFill>
        <p:spPr>
          <a:xfrm>
            <a:off x="6629400" y="1214280"/>
            <a:ext cx="2011320" cy="267660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6"/>
          <p:cNvSpPr/>
          <p:nvPr/>
        </p:nvSpPr>
        <p:spPr>
          <a:xfrm>
            <a:off x="6611760" y="4060800"/>
            <a:ext cx="2362320" cy="13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Calibri"/>
              </a:rPr>
              <a:t>Основы религиозных культур и светской этики. Основы исламской  культуры. 4 класс. Учебн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Calibri"/>
              </a:rPr>
              <a:t>Д.И. Латышина, М.Ф. Муртаз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alina</cp:lastModifiedBy>
  <dcterms:modified xsi:type="dcterms:W3CDTF">2024-03-20T13:58:33Z</dcterms:modified>
  <cp:revision>1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